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A83E-002D-4D2E-9F47-E4F48F48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CBB4-B2F5-43F5-A747-CA9A3B01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C4B9-8289-424B-AAC8-2DD796D3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82D3-7FB0-46FC-8632-2073D78CC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4BA4-F3FD-40DB-BB94-D077DE25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0399-53EC-4A56-92B1-0A082491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A02C-1AAA-4FF1-AD65-257BBAA3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7F2C-DC5C-44B4-A868-95F57E5A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2058-A009-4EB8-974A-7AA29E08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6496-4D8C-448B-9322-0D8F1397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0A36-8D70-4891-A2A4-7B94357A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E073-B022-4515-9065-2EB18565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6A8D-CDD6-4C40-9B21-9B4D35D00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7962840" cy="1206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8600" y="14079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00200" y="1447920"/>
            <a:ext cx="5475240" cy="393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28600" y="1814400"/>
            <a:ext cx="8305920" cy="4210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38480" y="5105520"/>
            <a:ext cx="9907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320" y="88920"/>
            <a:ext cx="9067680" cy="4341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62120" y="3962520"/>
            <a:ext cx="5331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3962520"/>
            <a:ext cx="6094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3962520"/>
            <a:ext cx="8380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91720" cy="2905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62320" y="2819520"/>
            <a:ext cx="6094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2743200"/>
            <a:ext cx="8380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077320" y="28195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7T16:30:42Z</dcterms:created>
  <dc:creator>Graham</dc:creator>
  <dc:description/>
  <dc:language>en-US</dc:language>
  <cp:lastModifiedBy>Graham</cp:lastModifiedBy>
  <dcterms:modified xsi:type="dcterms:W3CDTF">2012-08-08T12:19:41Z</dcterms:modified>
  <cp:revision>2</cp:revision>
  <dc:subject/>
  <dc:title>Slide 1</dc:title>
</cp:coreProperties>
</file>